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2A6-B694-456D-BF74-34BE680A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202-7D9D-4C9C-93B7-E7738177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37C-77AD-4C95-BE9E-41572701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CF8-5F92-4B76-9504-9D660CB9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AC2-7179-43C5-9D43-39E2051B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038-63AB-4102-B3DF-870125A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A6B-2777-497E-AAF8-5F9DEA3B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E08-FF56-4AD1-9907-CA46984C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1D6-3706-4C80-A31F-E3FAE439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ED4-D4F8-44AE-8B0F-EC5DEB0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E40-6866-42B1-985A-2249846C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AFD-F48A-4359-94F2-C1897A1E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a5c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81FD-7759-4848-BFA3-AE42EBDBA58D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© KING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5E3-6474-4437-82FA-B2E7C30C456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Afbeelding 6" descr="Afbeelding1.png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Familiecriteria StUF voor</a:t>
            </a:r>
            <a:br>
              <a:rPr sz="4400"/>
            </a:b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sectormodellen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98989"/>
                </a:solidFill>
                <a:latin typeface="Calibri"/>
              </a:rPr>
              <a:t>Utrecht - StUF Regiegroep -  2/2/2011</a:t>
            </a: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98989"/>
                </a:solidFill>
                <a:latin typeface="Calibri"/>
              </a:rPr>
              <a:t>Peter Klaver</a:t>
            </a: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Inhoudelijke criteria (expertgroep)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uidelijkheid over de plek in de familie-structuur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Organisatorische en functionele werkingsgebied moet duidelijk zijn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ldoet aan 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StUF onderlaag (o.a. validerende schema’s)</a:t>
            </a:r>
            <a:endParaRPr b="0" lang="en-US" sz="2200" spc="-1" strike="noStrike">
              <a:solidFill>
                <a:srgbClr val="da5c21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rotocolbindingen</a:t>
            </a:r>
            <a:endParaRPr b="0" lang="en-US" sz="2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en structuurplaatje opbouw schema’s (documentatieverplichting)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ldoet aan naamgeving- en versienummeringsconventies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Optimaal hergebruik bestaande StUF-onderdelen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Geen conflicten met andere StUF-onderdelen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Beheercriteria </a:t>
            </a:r>
            <a:br>
              <a:rPr sz="4400"/>
            </a:b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(regiegroep)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eheercontinuiteit &gt;= 3 jaar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uidelijkheid afhankelijkheid met andere StUF onderdelen (in bijv. een configuratieplaatje)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Release beleid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gesproken releasefrequentie</a:t>
            </a:r>
            <a:endParaRPr b="0" lang="en-US" sz="2200" spc="-1" strike="noStrike">
              <a:solidFill>
                <a:srgbClr val="da5c21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ansluitend op afhankelijke familieleden</a:t>
            </a:r>
            <a:endParaRPr b="0" lang="en-US" sz="2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eldere besluitvormings- en participatiestructuur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ste vertegenwoordiger beheerorganisatie in regiegroep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pecificaties publiekelijk toegankelijk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eschreven beheermodel analoog aan StUF beheermodel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zicht in (voorgenomen) implementaties</a:t>
            </a: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Vervolg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luit over deze criteria 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s eerste zal dit worden toegepast op 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UF LVO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UF BGT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riteria worden opgenomen in StUF beheermod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1-02-01T19:21:08Z</dcterms:modified>
  <cp:revision>24</cp:revision>
  <dc:subject/>
  <dc:title>Werkplan StUF 2010</dc:title>
</cp:coreProperties>
</file>